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E19-B813-47B7-9A5E-D2E6DC7D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446-BC48-44FE-857E-58F194C7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9A2-B104-4B03-878E-37E3D2D1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0B3-A9D9-4156-AC38-DEB061BE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DE9-DF3B-42C1-852A-7EE99143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1E1-2346-402A-B548-A74194AE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810-DB4A-4D15-8054-8F07086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E9A-5164-48D6-A7DC-09775E4D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9E4-B934-4D69-BB9D-16EBBF36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F95-21DE-4A72-823A-511B0916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BA2-F43B-419E-A439-23B43952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69B-D78C-442D-AFED-D23AA5E5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3B8-6BBF-4B83-BFC0-CD9A208F7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NI HAU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50083"/>
              <a:gd name="adj2" fmla="val 2497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could you pre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t in Africa without a fri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ut sal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53"/>
              <a:gd name="adj2" fmla="val 256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tribe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Zulu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53"/>
              <a:gd name="adj2" fmla="val 22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g of the ju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AWRRR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50083"/>
              <a:gd name="adj2" fmla="val 238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the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eychel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2089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#1 crop grown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head dresse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men wear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338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nimal can shoot you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s need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orc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49953"/>
              <a:gd name="adj2" fmla="val 218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rthest country eas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ma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53"/>
              <a:gd name="adj2" fmla="val 2837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ound how many people di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vation every day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20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th day is celebrated on w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83"/>
              <a:gd name="adj2" fmla="val 21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mallest animal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53"/>
              <a:gd name="adj2" fmla="val 29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hott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y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number one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s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49828"/>
              <a:gd name="adj2" fmla="val 188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icks, mud, and rocks are u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make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house or hu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066680" y="1447920"/>
            <a:ext cx="7162920" cy="4038480"/>
          </a:xfrm>
          <a:prstGeom prst="wedgeRectCallout">
            <a:avLst>
              <a:gd name="adj1" fmla="val -49953"/>
              <a:gd name="adj2" fmla="val 3335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argest bird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3808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str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53"/>
              <a:gd name="adj2" fmla="val 25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ountry are pyrami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ually located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gy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50208"/>
              <a:gd name="adj2" fmla="val 2270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one type of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can be hunted in Afric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hog, Antelope, Dee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50208"/>
              <a:gd name="adj2" fmla="val 2542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what of the 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s in Afr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besides african.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wahill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53"/>
              <a:gd name="adj2" fmla="val 25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er dog that laug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hy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83"/>
              <a:gd name="adj2" fmla="val 23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most popula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 Af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ig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JSEAQUIS</cp:lastModifiedBy>
  <cp:lastPrinted>2001-01-31T16:21:13Z</cp:lastPrinted>
  <dcterms:modified xsi:type="dcterms:W3CDTF">2010-11-03T18:25:00Z</dcterms:modified>
  <cp:revision>6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